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E39-8C46-4048-B75B-446395B7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807-738F-4CC9-A849-F0986FDB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3AA-5EE9-4A97-A717-017AE3C9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9015-B4BC-4DEB-AB21-5885CA06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A75-E407-45E9-AE3E-DE80862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862-10D8-4723-8562-37CE504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0BA-FC91-4718-94F7-A940C940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9D5-F232-493C-B598-09214D1D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D6D-9191-432E-88E9-F0D64BB9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A7B-576B-4EC4-A958-E0EBD48A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D55-A714-4229-BC3D-8D90577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4B4-5197-4B4C-B9D3-0643B561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FA16-4E77-4375-9949-FD1D8ECC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4114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9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1. С нас остани! Денят замира в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вред нощни сенки падат отдалеч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луждаем ний в тъма отчаяни,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безпомощни, сами 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757080" y="115200"/>
            <a:ext cx="99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2. Засеня мрак и нашия жив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зчезват слава, радости, имот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ищо не щадят променливи дни;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и Си неизменим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1656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3. Не ни зарадвай с поглед сал един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в нас живей, о, Боже, Ти самин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Христе, с ръка Си крепка ни хван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и вечно ни води - с нас оста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7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7044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73080" y="4137840"/>
            <a:ext cx="954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4. Нуждаем се от Теб ний всеки час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за изкушения сила няма в нас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Спасителю, от зло ни Ти брани!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През мрак, през видело - с нас остани!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1:55:51Z</dcterms:created>
  <dc:creator>TrifonTrifonow</dc:creator>
  <dc:description/>
  <dc:language>en-US</dc:language>
  <cp:lastModifiedBy>TrifonTrifonow</cp:lastModifiedBy>
  <dcterms:modified xsi:type="dcterms:W3CDTF">2005-11-22T21:04:21Z</dcterms:modified>
  <cp:revision>9</cp:revision>
  <dc:subject/>
  <dc:title>Slide 1</dc:title>
</cp:coreProperties>
</file>